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E99E-3037-4978-9EF3-B210041905D9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1801-DAD2-4161-A6DB-59F1D8F2B887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0C4D-EC42-4678-86FF-05ACF0C92881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2893-BDC8-41CB-8AE9-BBADA90213CF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7BE-9353-48DE-8CBD-C95A0F024F48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2A9-9BB7-414D-A898-9A9C023D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C07-80B1-4238-A32E-7216B556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451-11BA-40BF-8FDC-37AAC7B6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7CF-CF2A-406D-AA76-0DFFD56B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F42-BF2F-4147-98CE-00D17B5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2CD-86F8-41C8-843C-4D06C633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C4A-760E-44AA-B2BC-99354844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29C-90F9-4491-B019-C84E2783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776-87C0-44FD-888D-7100467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DB3-939F-4970-81F5-3783FBE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A7C-14F8-453E-830F-AE770B4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5F4-26BB-4006-B3A4-89AD042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B796-1E02-48AA-B026-CA5A5038A6EC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he field of computer science devoted to making computers perceive, reason, and act in ways that have been/are reserved for hum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lan Turing - 1936 “On Computable Numbers” - Princeton Paper that laid the groundwork for all modern computer sc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1938 - led a group to build Colossus (completed 1943), a successful NAZI code cracking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1950 - “Computing Machinery and Intelligence” launches the field of AI - Turing Test is 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1952 - Turing is arrested for being homosex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1954 - Committed sui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f he had li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ARON - an automated artist programmed by Harold Cohen, artist and professor at University of California, San D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Uses over 1000 rules of human anatomy and behavior to create drawings of people, plants and abstract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4360" y="3143160"/>
            <a:ext cx="5184720" cy="3638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929200" y="3029040"/>
            <a:ext cx="2691000" cy="3752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Advantages to Exper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help train new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reduce number of human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take care of routine tasks, freeing workers to focus on more challenging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provide expertise when no expert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preserve the knowledge of experts after they have g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combine the knowledge of several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make knowledge available to mor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Image Analysis - the process of identifying objects and shapes in a photo, drawing, video or other visual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OCR - Optical Charact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Automated Speech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alking Computers - Synthetic speech vs speech digitized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Neural Networks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Neural Networks or neural nets - rather than one powerful CPU, uses thousands of simpler processors in a form of distruibuted, parallel computing. Attempts to mimic the way the brain 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hey are not programmed trained by trial and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Information is stored as patterns of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Artificial vision and pattern recogn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Robotics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Artificial Intellige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 is the study of ideas which enable computers to do things that make people seem intelligent. - Patrick Henry Win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 is the study of how to make computers do things at which, at the moment, people are better.  - Elaine R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 is the study of the computations that make it possible to perceive, reason and act.  - Patrick Henry Win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Approaches to 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) Simulation Approach - attempts to use computers to simulate human mental process.  Has thre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) most people can’t even describe how they do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b) the human brain is far too complex to duplicate with today’s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c ) the best way to do something with a machine is very different from na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Approaches to AI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2) Intelligent machines approach - designing intelligent machines independent of the way people think. This is best accomplished when the machines are limited to a specific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mes Domains (Checkers and Chess) techniqu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Searching: Using brute force to consider all possible decisions.  Even checkers have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ho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Heuristics: Using ‘rules of thumb’ to guide computers toward judgements that experience tells us are likely to b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attern choices: Remembering patterns or situations which reoccur and call for a specific strate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Machine learning: Remembering certain moves and their results.  Good moves are remembered and bad ones avoi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e are some Domains where AI is being develop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Natural Language Communication - To create machines that can converse with humans at a human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) Machine translation: Automatic translation using parsing programs. Separates each sentence into parts and then substitutes the translated words.  Became the subject of many jok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 of site, out of mind” becomes “Blind and insane” or “invisible idi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2) ELIZA: Developed by Joseph Weizenbaum, 1960s, to simulate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3) RACTER: wrote “The Policeman’s Beard is only Half Construct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y is natural language so difficu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) Syntax - strict rules of languag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2) Semantics - the underlying meaning of words and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nowledge Bases - differ from databases in that they are not as rigid and can be reorganised on the basis of changes in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ficult to build because common sense is acquired through li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domains are restricted, knowledge bases become the heart of expert systems - software programs designed to replicate the decision making process of a human expert.  These systems employ Fuzzy rules that state conclusions as probabilities.  Here are some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) MYCIN - a medical exper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) XCON - Digital Corporation’s knowledge base of hardware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) American Express - for doing credit checks on card hol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) Blue Cross/Blue Shield - for claims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.) Boeing Company - parts, tools and techniques for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.) Microsoft - diagnosing printer network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7.) Freelance writer Scott French - writing analysis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Examples of Intelligence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ability to learn from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power of th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ability to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ability to perceive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power of in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ability to us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intu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Can a machine be intelligent? Can a machine Thi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</a:rPr>
              <a:t>A machine can be deemed intelligent when it can pass for a human being in a blind test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Alan 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uring Test - Involves two people and a computer.  If the computer can convince one human it is also human, it has passed the test. If it 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</a:rPr>
              <a:t>acts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intelligent, according to Turing, it 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intelli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81560" y="3995640"/>
            <a:ext cx="390996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ELIZA - one of the first software programs to converse in a limited form of natur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-ai.ijs.si/eliza/eliza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What is Artificial Intellige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I is the study of ideas which enable computers to do things that make people seem intelligent. - Patrick Henry Win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Times New Roman"/>
              </a:rPr>
              <a:t>From 1977 - captures the general idea of AI but breaks down when applied to specific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I is the study of how to make computers do things at which, at the moment, people are better.  - Elaine R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Times New Roman"/>
              </a:rPr>
              <a:t>This definition sees AI as a moving frontier. “Whatever hasn’t been done yet.” These difinitions tend to be accurate but are short on specif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I is the study of the computations that make it possible to perceive, reason and act.  - Patrick Henry Win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Times New Roman"/>
              </a:rPr>
              <a:t>This most recent definition brings together the computer scientists challange of producing ‘machine intelligence’ and the psychologists desire to investigate ‘natural intelligence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Two Approaches to 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) Simulation Approach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- attempts to use computers to simulate human mental process.  Has thre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(a) most people can’t even describe how they do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(b) the human brain is far too complex to duplicate with today’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(c ) the best way to do something with a machine is very different from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 u="sng">
                <a:solidFill>
                  <a:srgbClr val="000000"/>
                </a:solidFill>
                <a:uFillTx/>
                <a:latin typeface="Times New Roman"/>
              </a:rPr>
              <a:t>(2) Intelligent machines approach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 - designing intelligent machines independent of the way people think. This is best accomplished when the machines are limited to a specific domai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Games Domains (Checkers and Chess) technique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- Searching: Using brute force to consider all possible decisions.  Even checkers have 10</a:t>
            </a:r>
            <a:r>
              <a:rPr b="0" lang="tr-TR" sz="22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 choi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- Heuristics: Using ‘rules of thumb’ to guide computers toward judgements that experience tells us are likely to be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- Pattern choices: Remembering patterns or situations which reoccur and call for a specific strateg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- Machine learning: Remembering certain moves and their results.  Good moves are remembered and reused, bad ones avoid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omains where AI is being develop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) Natural Language Communication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- To create machines that can converse with humans at a human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Machine translation: Automatic translation using parsing programs. Separates each sentence into parts and then substitutes the translated words.  Became the subject of many jok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Out of site, out of mind” becomes “Blind and insane” or “invisible idi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ELIZA: Developed by Joseph Weizenbaum, 1960s, to simulate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RACTER: wrote “The Policeman’s Beard is only Half Construct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y is natural language so difficu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(a) Syntax - strict rules of languag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(b) Semantics - the underlying meaning of words and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) Knowledge Bases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- differ from databases in that they are not as rigid and can be reorganised on the basis of changes in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ifficult to build because common sense is acquired through li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en domains are restricted, knowledge bases become the heart of expert systems - software programs designed to replicate the decision making process of a human expert.  These systems employ Fuzzy rules that state conclusions as probabilities.  Here are some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MYCIN - a medical exper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XCON - Digital Corporation’s knowledge base of hardware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American Express - for doing credit checks on card hol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Blue Cross/Blue Shield - for claims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Boeing Company - parts, tools and techniques for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Microsoft - diagnosing printer network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Freelance writer Scott French - writing analysis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m. Int. School of Luxembourg</dc:creator>
  <dc:description/>
  <dc:language>en-US</dc:language>
  <cp:lastModifiedBy>Vahdettin Doğan</cp:lastModifiedBy>
  <dcterms:modified xsi:type="dcterms:W3CDTF">2005-02-03T15:37:04Z</dcterms:modified>
  <cp:revision>9</cp:revision>
  <dc:subject/>
  <dc:title>Chapter 13: Is Artificial Intelligence Real?</dc:title>
</cp:coreProperties>
</file>